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61946"/>
        <c:axId val="48511133"/>
      </c:barChart>
      <c:catAx>
        <c:axId val="19461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11133"/>
        <c:crosses val="autoZero"/>
        <c:auto val="1"/>
        <c:lblAlgn val="ctr"/>
        <c:lblOffset val="100"/>
        <c:noMultiLvlLbl val="0"/>
      </c:catAx>
      <c:valAx>
        <c:axId val="48511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61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8AA-B6B9-4B6B-859F-39968B41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F69-6405-430F-9F9D-961BE40E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020-CC9E-4B4F-A615-322919AD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F18-D515-46AC-8FD3-89529DF8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2C8-3BA2-4521-84B9-1E21AE7E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8C4-72A0-42EA-807D-A60B29A7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793-260D-4F17-99AD-80F19CC1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54A-F698-48FD-9C19-6D32441E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F37-D7C1-485C-9131-DEFC2363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D8A-E799-4038-A009-6A12B100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0B0-F5F8-4B0C-883F-7255161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A36-46D7-4F24-8550-F65C2EE5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118E1-9729-490E-B384-27E9297CFC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