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04412"/>
        <c:axId val="61615780"/>
      </c:barChart>
      <c:catAx>
        <c:axId val="69104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5780"/>
        <c:crosses val="autoZero"/>
        <c:auto val="1"/>
        <c:lblAlgn val="ctr"/>
        <c:lblOffset val="100"/>
        <c:noMultiLvlLbl val="0"/>
      </c:catAx>
      <c:valAx>
        <c:axId val="61615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4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88A-2D55-4D32-AAD9-47B659B5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C17-4279-4F2F-841C-7FCF0CE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879-88F1-4839-A610-31F0FB0E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374-683F-48E5-B15C-1B3CA39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47F-79BA-4001-B1D3-1DC8CDC3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AB3-6871-4444-A97F-6DB9645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8DB-C9B4-450E-BADB-7F748D2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DBC-E56A-4D52-A9EB-C4BD5CAC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360-D610-4A54-B603-8DDF1504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645-34F2-4FDD-BA0B-8217C7E0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3C1-C633-461D-848D-1714D18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CDC-D928-4305-B129-06E8431D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47DA6-9D3C-4694-B21E-1CDA75FBB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