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93966"/>
        <c:axId val="22454302"/>
      </c:barChart>
      <c:catAx>
        <c:axId val="72593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54302"/>
        <c:crosses val="autoZero"/>
        <c:auto val="1"/>
        <c:lblAlgn val="ctr"/>
        <c:lblOffset val="100"/>
        <c:noMultiLvlLbl val="0"/>
      </c:catAx>
      <c:valAx>
        <c:axId val="22454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93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85E-1779-46BB-BABA-331450F0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8DD-083E-4B2C-AA4A-AD0C3AB9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63C-858C-47D0-BC56-89FB5D74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ED9-8626-421B-9AE1-44B88053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3FF-8042-47A3-8B01-4F893EBD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A88-6CFA-4A52-B5AC-37EDB6F2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012-F4B3-4CB6-A0DB-E94BE5D8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8E0-315B-42D2-99A8-9C6481EF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100-2B53-4997-82C6-ADF7FFD5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D24-0599-43D5-8BCB-1CC7569D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004-2D1A-45EE-966B-43168B2C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1F8-7186-416A-A958-F7442C1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3D280-D83D-4181-BB1B-2588E44A4B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