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54747"/>
        <c:axId val="16139577"/>
      </c:barChart>
      <c:catAx>
        <c:axId val="18954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39577"/>
        <c:crosses val="autoZero"/>
        <c:auto val="1"/>
        <c:lblAlgn val="ctr"/>
        <c:lblOffset val="100"/>
        <c:noMultiLvlLbl val="0"/>
      </c:catAx>
      <c:valAx>
        <c:axId val="16139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54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8B1-8EFC-4E81-86D9-C70EDFB9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E63-2392-4470-B9C8-22E49D10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90E-33E1-4769-A378-2DB62B26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C25-C7B3-441A-9D91-FAA8AF71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C7A-73B7-4261-A7C3-42643892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4E0-11AC-4293-9ED6-59B2F692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FC5-88C2-4ACD-996D-A164E4D5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218-4307-4181-A4B6-9D4E2C33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57D-B05F-4465-9ECD-20F17F4B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719-B9F6-4779-B765-9E86457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62D-B469-4D25-AD14-F218F137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D44-D841-4E67-8929-4A3A9D0B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D8725-E010-4B30-AD8D-DED2D90462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