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64518"/>
        <c:axId val="71085262"/>
      </c:barChart>
      <c:catAx>
        <c:axId val="57064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85262"/>
        <c:crosses val="autoZero"/>
        <c:auto val="1"/>
        <c:lblAlgn val="ctr"/>
        <c:lblOffset val="100"/>
        <c:noMultiLvlLbl val="0"/>
      </c:catAx>
      <c:valAx>
        <c:axId val="71085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64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40D-513F-479F-95CD-F673A42E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F19-F578-4091-B11D-F2BE6811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AFB-7A58-4DBA-ACB9-D5867B82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CBE-B9A3-4403-86DE-28BE574C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128-3C68-4D1A-96B8-1378DCB3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2B5-AB2B-47C2-90EB-4201550B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C64-8CF6-4EDE-B89A-FDC83B7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A22-481A-4E3D-842D-B3A1C01B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038-0DF6-47F4-9135-4970F474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7A5-7739-40B1-B88E-45CB703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C00-AA72-41C2-91A9-2589E76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C1D-000F-492A-8D5A-0A51B40D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E7F61-544D-43D5-91FA-F39D786347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