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72733"/>
        <c:axId val="66561418"/>
      </c:barChart>
      <c:catAx>
        <c:axId val="13172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61418"/>
        <c:crosses val="autoZero"/>
        <c:auto val="1"/>
        <c:lblAlgn val="ctr"/>
        <c:lblOffset val="100"/>
        <c:noMultiLvlLbl val="0"/>
      </c:catAx>
      <c:valAx>
        <c:axId val="66561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72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3A3-0E31-4232-811F-12BDD329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636-C910-400C-A7EA-784E8F8E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B75-9502-4E6C-80A9-DD53AA71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E24-EFAF-4880-BCE3-1950BC19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06E-86AB-4FA9-BEFB-203852BC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816-9971-48DC-98C4-E6272CC4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83D-FFDD-4D9E-8EDB-E2D7ED05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A2A-4108-4B39-9C65-3585062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80C-1E50-415B-BD5A-FBE8F994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79C-7DC9-4077-B85E-E3E984B1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00E-35DB-49D0-988E-FDD6687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5B2-915F-4593-8187-F414283C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AD6FE-8ADE-4955-8591-968941EED0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