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14468"/>
        <c:axId val="12007350"/>
      </c:barChart>
      <c:catAx>
        <c:axId val="48914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07350"/>
        <c:crosses val="autoZero"/>
        <c:auto val="1"/>
        <c:lblAlgn val="ctr"/>
        <c:lblOffset val="100"/>
        <c:noMultiLvlLbl val="0"/>
      </c:catAx>
      <c:valAx>
        <c:axId val="12007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4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1F4-7AAB-449E-A83E-2FB9CBDB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791-9F92-442C-8DD6-B7FED633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947-2687-4E1B-B061-395E1259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C73-3AA1-405B-B5D0-B9E8CBBB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FBB-B013-4915-ADD9-993FF461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7BF-1A10-4C6B-AB43-1EB3CCD2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47C-0CFD-45BE-AFAA-E13F16C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EB3-CD79-4920-BE22-839C8B94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23D-D59F-4271-ADA6-295E6EFB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FF4-977B-406B-BAB7-425A3305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0BD-6D75-4E60-9AD6-DC5B7EE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013-A8AA-485D-8F4C-D2699D9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10BE5-3EC1-43F0-A926-0D7753019F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