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77675"/>
        <c:axId val="90873754"/>
      </c:barChart>
      <c:catAx>
        <c:axId val="81477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3754"/>
        <c:crosses val="autoZero"/>
        <c:auto val="1"/>
        <c:lblAlgn val="ctr"/>
        <c:lblOffset val="100"/>
        <c:noMultiLvlLbl val="0"/>
      </c:catAx>
      <c:valAx>
        <c:axId val="90873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7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4A1-44DE-47DA-8A0D-D76A0891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992-28E7-471E-B105-CEF3AF9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D72-53E6-48E3-8339-39B67A11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0D3-EDE8-48AC-9938-7722C61E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118-0C71-4F0A-89D7-39C54AB2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DBB-BF5D-4204-A956-57170811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BC2-88DF-4297-915F-768DB87C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178-5873-48C4-B7E3-FFF87DA2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7A2-C4D9-4DE7-A428-FDD52FF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103-1F37-4017-9D5B-2DC8D59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A20-6ABB-4C2A-AB00-21F6A0F2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6DE-16E8-4D25-AE73-E894006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D3EC1-53F3-4A62-81F9-15514DAA26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