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76825"/>
        <c:axId val="68578761"/>
      </c:barChart>
      <c:catAx>
        <c:axId val="86676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78761"/>
        <c:crosses val="autoZero"/>
        <c:auto val="1"/>
        <c:lblAlgn val="ctr"/>
        <c:lblOffset val="100"/>
        <c:noMultiLvlLbl val="0"/>
      </c:catAx>
      <c:valAx>
        <c:axId val="68578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76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FB0-7116-4809-AF65-ACBF0798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669-FCBC-42DA-AC13-6AF8ECFF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9E6-302C-4303-B5F2-E795F265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DAA-9389-4FD9-853B-6F269C73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222-7F25-403F-B031-3ABB2905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69E-7632-47A2-969F-412E2CEA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C07-37E9-452E-8E95-3EC03023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64D-2F79-4766-9996-643A2C3F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323-EEA4-43DA-AE66-68B98092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195-B2B7-4410-9C63-DE8DDE3D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8E2-5BCC-47DE-9997-2E2C10E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6DB-AD7D-47F5-99CC-47F14BAF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71130-D513-4E10-835B-6C113FF616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