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023457"/>
        <c:axId val="39452643"/>
      </c:barChart>
      <c:catAx>
        <c:axId val="400234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52643"/>
        <c:crosses val="autoZero"/>
        <c:auto val="1"/>
        <c:lblAlgn val="ctr"/>
        <c:lblOffset val="100"/>
        <c:noMultiLvlLbl val="0"/>
      </c:catAx>
      <c:valAx>
        <c:axId val="394526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234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07FC-5BAA-4CC6-A969-B95A08DD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95BD-766D-4142-B5F5-92ADA132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BFA4-E941-4F3A-9718-0C465D5A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419A-AA90-4D18-9B01-05FF4527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7110-B521-4AA8-B895-C96F8747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594D-FFB5-4CA9-8892-936523D1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388C-8524-487E-825C-7EE35F6E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65B2-9951-40FD-B835-53AC148F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3C71-3A0B-4DAC-8D22-A9F43C6F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72EB-E450-408A-AF38-DFB226B0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A069-7018-4F71-88CB-04A9D4FA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03FB-0958-415D-96B1-CBA33DF3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F5BDE-4D5E-4670-B98E-699285C9F8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