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435083"/>
        <c:axId val="59275038"/>
      </c:barChart>
      <c:catAx>
        <c:axId val="984350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75038"/>
        <c:crosses val="autoZero"/>
        <c:auto val="1"/>
        <c:lblAlgn val="ctr"/>
        <c:lblOffset val="100"/>
        <c:noMultiLvlLbl val="0"/>
      </c:catAx>
      <c:valAx>
        <c:axId val="592750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350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0539-4409-441D-9C6C-86D0E029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67F3-AEB0-4285-BFF7-3D7DC977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D105-7226-4102-A527-DD18D336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A8F9-9F37-4FB2-99FB-EF83D0DE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2557-8224-496A-AB65-7C6F8602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0F83-15A9-4AC9-9B1F-90D3C09A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248C-E87E-4DD6-A8C0-DCC9496F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D475-8EC1-48B4-B032-77498E11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AEAC-BEF0-4F65-88C4-F8226959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F278-29C6-46D6-9BC9-A29E1D86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10DF-9AC3-48F7-81FE-FDD233D7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2BAB-6EA5-400E-9394-549AA362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06B7A-7DFA-4D83-B054-76682EF492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