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51113"/>
        <c:axId val="71698852"/>
      </c:barChart>
      <c:catAx>
        <c:axId val="29751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98852"/>
        <c:crosses val="autoZero"/>
        <c:auto val="1"/>
        <c:lblAlgn val="ctr"/>
        <c:lblOffset val="100"/>
        <c:noMultiLvlLbl val="0"/>
      </c:catAx>
      <c:valAx>
        <c:axId val="71698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51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626-678B-4423-A7C2-0AE2FF68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99F-77BC-4CDC-97BC-0889344E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284-A680-406A-8512-8549F6D4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05A-8264-4C29-B889-813E1D3C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C2A-BCC7-4830-BE95-5D2BD544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45A-7844-49E2-B62C-9CFCF9F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F2D-1BD1-4213-B70C-FB9FB056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1B7-1A6B-4CA6-9D4F-05FF5B49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BF0-D57D-4EB6-A79C-F7C3DF65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43A-BFDE-42D1-998F-AEFB7FF2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C44-DBCF-4C1B-B542-FDF0B02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637-5A96-4911-8369-18F6A82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E4C9C-96CA-4D91-96CF-7352CDC6C9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