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42513"/>
        <c:axId val="58831244"/>
      </c:barChart>
      <c:catAx>
        <c:axId val="33042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31244"/>
        <c:crosses val="autoZero"/>
        <c:auto val="1"/>
        <c:lblAlgn val="ctr"/>
        <c:lblOffset val="100"/>
        <c:noMultiLvlLbl val="0"/>
      </c:catAx>
      <c:valAx>
        <c:axId val="58831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42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1CB-E8E5-4896-96C1-3AD954EC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74B-6A8C-4047-8DD6-6222041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4CB-A5D2-4CE2-A086-73347ADC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BDC-51B7-416E-A485-559C4750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B53-B65D-4B56-AE67-905CC848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FD2-3BE0-4C66-8FDC-44A9D7F9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1A4-2485-4D3D-9E18-82AD11E6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974-2DB3-4FA2-8CAF-18F20FE5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AD1-D9D1-4E29-9CEE-CB8F2C2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B02-FD69-415B-BD01-A5688CA7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7CD-B101-48E6-9067-E8C72C7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6C3-5084-45A0-B66B-94AB02E0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D7E19-CB1D-4392-AF27-8A8AC8BDF2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