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685797"/>
        <c:axId val="76732350"/>
      </c:barChart>
      <c:catAx>
        <c:axId val="11685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32350"/>
        <c:crosses val="autoZero"/>
        <c:auto val="1"/>
        <c:lblAlgn val="ctr"/>
        <c:lblOffset val="100"/>
        <c:noMultiLvlLbl val="0"/>
      </c:catAx>
      <c:valAx>
        <c:axId val="767323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685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C3B-FA25-463F-8FCA-5EC99523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39C8-0823-4DD8-AE2B-1738ADCA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F93-FC09-44AC-A015-715FC2D6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4C61-9674-4900-BF99-751E275F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F2C2-9768-47AC-849C-FE27A223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A642-A251-494D-BA83-961F7FD7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C010-0508-4898-8727-F68F316D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2933-3F7F-42D2-81D3-B4084086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5906-2380-458F-9337-6A855FA3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383-C537-41CB-95AD-9AC5CE41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AA8-A35A-4628-B745-FE092D38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FB8-145E-4D34-B508-EDF5C41C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91A46-0463-435F-A6F5-07651F7BAF0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