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77613"/>
        <c:axId val="99853129"/>
      </c:barChart>
      <c:catAx>
        <c:axId val="31177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53129"/>
        <c:crosses val="autoZero"/>
        <c:auto val="1"/>
        <c:lblAlgn val="ctr"/>
        <c:lblOffset val="100"/>
        <c:noMultiLvlLbl val="0"/>
      </c:catAx>
      <c:valAx>
        <c:axId val="99853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77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02D-ADBC-4CE4-9EA3-F87A1C67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A7A-AA7C-4453-A1F6-338976CE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83E-6458-49AB-AA29-3171D381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7F6-F827-4C12-8CA4-7BA5FA3A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CF4-912B-4B2E-BBB9-4CBAF625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64EF-5D31-425C-9048-997125DD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612-18F8-4A04-858B-3984FC46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43CE-F947-4C4C-AAA1-3F432198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7597-8BBE-4F98-98C9-87D0A50C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08A-3DF9-4F87-8276-B08C6805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4D4-D8BC-4042-9F0C-0DB77475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B3C-A3CA-4DC8-81EE-919732DA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C384F-40C3-441D-85F2-EFC6DA0E4B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