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891052"/>
        <c:axId val="59453949"/>
      </c:barChart>
      <c:catAx>
        <c:axId val="248910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53949"/>
        <c:crosses val="autoZero"/>
        <c:auto val="1"/>
        <c:lblAlgn val="ctr"/>
        <c:lblOffset val="100"/>
        <c:noMultiLvlLbl val="0"/>
      </c:catAx>
      <c:valAx>
        <c:axId val="594539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910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4A49-F6A7-4136-95FE-B9A260CE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492F-A5BE-402B-9CC0-129925F2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BBC-59A4-471C-B23D-3B253FAA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17E2-59B7-4075-8321-B509CFFF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9D24-574C-404F-9F5B-6D126A4B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D86E-5F11-4BD8-9FA0-4DE1057E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CFD7-5358-45D9-AD06-71D31187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F56C-17CE-4CFF-9394-0AAF8C38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3C71-BEC7-4641-A9D6-515756D1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3B4C-ABBD-4C8A-AF1C-469D13B5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BC95-C885-4EB4-8C76-6E620FCF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0428-3B97-48EC-9750-207153F6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D51F9-6132-4141-AD4E-9828E66322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