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21DF5-907C-4DA0-935D-044F1335E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BF524-DFAB-4AA5-A631-80F814E42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99ADB-C788-49DD-B4B8-720BCDB4B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A35A0-5840-45BE-967F-759D520EE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765-7E76-443E-A38C-58A7DFB17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1F45-C661-48A1-A6CA-D60D3DDB1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C441-863F-4F17-875D-46EC9D7F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C903-69E7-4B48-B321-400EC425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677DC-13A8-4004-A8FF-D27FB9186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3BC3-9993-455C-8551-0C7431F6B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3734-24FA-4C53-A702-7737DB587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56BAA-E30E-4179-8E4B-399CE5EDE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52055-62F5-4C3A-8A8B-A9082014A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Power Point</a:t>
            </a: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Header Foo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7-08T13:54:08Z</dcterms:created>
  <dc:creator>grizob</dc:creator>
  <dc:description/>
  <dc:language>en-US</dc:language>
  <cp:lastModifiedBy>grizob</cp:lastModifiedBy>
  <dcterms:modified xsi:type="dcterms:W3CDTF">2008-07-08T13:54:35Z</dcterms:modified>
  <cp:revision>1</cp:revision>
  <dc:subject/>
  <dc:title>Power Point  </dc:title>
</cp:coreProperties>
</file>