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CDE2-DD2E-4D53-A36F-4ECF7CBA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8A6F-82B2-4B0A-AB8F-D67D23152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7B5A-A9C6-492B-8749-842DF1218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1BD5-6B86-4D88-8846-5B44225D2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40E0-B82A-4DE5-A3B4-58BDE449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6CF4-BF33-4A06-805B-B2B5E8A89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A8E3-FD1D-4286-AFC0-46BB8DD6B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E6D64-3827-421D-BA28-9066DEA54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E99A-6277-4056-B780-013DF252A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5687B-C2D9-41C3-99C0-786FC45CE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C6E3-DB3A-4436-BBE5-15E49F2D8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26E4B-E1F9-4A72-A31A-730FA7B97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293FCC-BFA3-468D-BC20-56BB131E55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7-31T16:52:40Z</dcterms:modified>
  <cp:revision>2</cp:revision>
  <dc:subject/>
  <dc:title>This is a title, it’s in black</dc:title>
</cp:coreProperties>
</file>