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A3D6-F711-435D-B448-627758A72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7C4BF-0E57-49E0-8662-6AAABBC1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EE10-8894-47D0-9392-3FBC0D8FB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27C5-2C0B-48F3-A126-3B3429DE6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8FD2E-4B56-4F0E-8560-72D3133ED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7E7BB-15BE-4129-AEAC-CC48CE9B3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0C0EF-12F4-4EF7-8582-F8BE8799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7464-F81E-48B3-BEF7-324FE154A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7CB2B-DB72-4FF8-8B20-859B2F499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F03C-7745-4215-BC92-524521268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82F12-AF11-426F-A69D-0D0D6F387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855B-4004-4242-8C8B-B418E7947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B21CC-4853-43A5-9C81-485136DE3E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89280" y="2784600"/>
            <a:ext cx="420660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lnSpc>
                <a:spcPct val="130000"/>
              </a:lnSpc>
              <a:spcBef>
                <a:spcPts val="1400"/>
              </a:spcBef>
              <a:spcAft>
                <a:spcPts val="601"/>
              </a:spcAft>
              <a:buClr>
                <a:srgbClr val="80808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e4a8"/>
                </a:solidFill>
                <a:latin typeface="Helvetica_Light-Normal"/>
              </a:rPr>
              <a:t>Hello, World!!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0760" y="3733920"/>
            <a:ext cx="6332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SzPct val="115000"/>
              <a:buFont typeface="Georgi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cc"/>
                </a:solidFill>
                <a:latin typeface="Georgia"/>
              </a:rPr>
              <a:t>I am just a poor b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83360" y="5332320"/>
            <a:ext cx="267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This is Times New Rom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355400" y="148608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in Tex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30T12:46:40Z</dcterms:created>
  <dc:creator>Yegor Kozlov</dc:creator>
  <dc:description/>
  <dc:language>en-US</dc:language>
  <cp:lastModifiedBy>Yegor Kozlov</cp:lastModifiedBy>
  <dcterms:modified xsi:type="dcterms:W3CDTF">2005-06-03T13:10:40Z</dcterms:modified>
  <cp:revision>23</cp:revision>
  <dc:subject/>
  <dc:title>PowerPoint Presentation</dc:title>
</cp:coreProperties>
</file>