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031-1542-4201-AB66-8D9EE16FF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FDE-37A5-46E2-9864-5EC553114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126D-F989-406C-9907-44CBA375D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ADD4-349C-44C0-B488-6269F2A9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A705-C1D6-4452-A0FC-779F60592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CA30-7AA8-4863-A739-64EEBD47E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D325-340D-430F-B5E2-4E104A021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F0B8-6934-44AC-A2BF-F6346C7F7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CA3-E464-44C3-8D8D-5299F5DF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9F5D-92CC-49BE-A70B-A965F911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B2F-5CAB-4AE5-9DF9-86B38E8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D506-D8EB-4193-865A-F8A22001B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C96C3-5086-4E37-A4AB-A9AC3E3AF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gging with Hidden Markov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MPT 882 Final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is Dem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on Fraser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ing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 Frequency with further Maximum Likelihood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ximum Likelihood training with random st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corpus, take counts and make translation t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HMM using BW or compute HMM using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most likely hidden state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POS role that each state most likely p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olithic 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vely opaque to debugging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 to modular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time/space efficiency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ed techniques for prior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ical St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small probabilities likely to under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tences? Fixed? Strea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itfal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role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xicon giving p(tag | word) from supervised corp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seen 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lly likely tags for multiple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max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not guaranteed to converge on correc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con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gene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ting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ate reduction of complexity (ambiguity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ion of bias for tuning (lexicon choice, initial FB valu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xed-size text chunks, model averaging between chunks for final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,000 words of Brown corpus: 96% accurate after eight it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MM Tagging: Prior Work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sted computed (Relative Frequency) vs trained (BWRE) mod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ed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 | word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p(tag) constant from bootstrap corpus’ R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allow degradation, but more slow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traints required extensive calc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worthy: Accuracy of classic trained HMM always decreases after some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295280" y="2457360"/>
            <a:ext cx="6553440" cy="38847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33520" y="63244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Elworthy, “Does Baum-Welch Re-Estimation Help Taggers?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gging: An excellent candidate for a CS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degrees of freedom in naïv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guistically, only some few tagging solutions are poss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MM, like modern CSP techniques, does not make final choices in 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-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nsive, but help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dates to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, B,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A if tag at (t+1) should not follow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an update to B if we are confident that word at (t) should not be associated with tag at 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rialdo’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-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nstra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vious places to incorporate constrai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ward-Backward calcu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me tags are linguistically impossible sequenti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ny transition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agging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ication of the part of speech of each word of a cor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ervised: Training corpus provided consisting of correctly tagged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pervised: Uses only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straints and HMM Tagging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to get constrai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mmar databases (WordN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tstrap cor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relative frequencies of tags to guess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requencies of words to estimate conf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viol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otiv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rker, an implementation in Java of HMM ta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multiple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ular updates for constraint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The Rea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MM component too time-consuming to de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liminary rule implementations based on corpus R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apas Kanugo’s HMM implementation in C, extern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Metho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n-Treebank Wall Street Journal part-of-speech tagg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pus handled as stream of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iciton of Kanugo’s HMM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enormous resource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grad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ccuracy with increase in training data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Experi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cor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000 words of PT WSJ Section 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training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tive Frequency, compu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ed, but with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supervised BW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arker: 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" y="1600200"/>
          <a:ext cx="8229600" cy="4537080"/>
        </p:xfrm>
        <a:graphic>
          <a:graphicData uri="http://schemas.openxmlformats.org/drawingml/2006/table">
            <a:tbl>
              <a:tblPr/>
              <a:tblGrid>
                <a:gridCol w="3733920"/>
                <a:gridCol w="1752480"/>
                <a:gridCol w="27432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 word corp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tive Frequenc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8.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.0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0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upervised,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W estimat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6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.9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reMarker H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corpus chu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ore complicated constra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porate tighter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aldo’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-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POS for each word: Word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chine-learned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Tutorial on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Rakesh Dugad and U. B. Desai. Technical Report, Signal Processing and Artificial Neural Networks Laboratory, Indian Institute of Technology, SPANN-96.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oes Baum-Welch Re-estimation help taggers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David Elworthy. Proceedings of 4th ACL Conf on ANLP, Stuttgart. pp. 53-5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Practical Part-of-Speech Tagg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2). Doug Cutting, Julian Kupiec, Jan Pedersen and Penelope Sibun. In Proceedings of ANLP-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agging text with a probabilistic mode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4). Bernard Merialdo. Computational Linguistics 20(2):155-17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A Gentle Tutorial on the EM Algorithm and its Application to Parameter Estimation for Gaussian Mixture and Hidden Markov Mode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1997). Jeff A. Bilmes, Technical Report, University of Berkeley, ICSI-TR-97-02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41972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ble states (corpus text) generated by hidden states (ta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v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7656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7656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57880" y="235908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57880" y="3657600"/>
            <a:ext cx="64440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402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672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7" idx="6"/>
            <a:endCxn id="49" idx="2"/>
          </p:cNvCxnSpPr>
          <p:nvPr/>
        </p:nvCxnSpPr>
        <p:spPr>
          <a:xfrm>
            <a:off x="3719160" y="266184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6"/>
            <a:endCxn id="51" idx="2"/>
          </p:cNvCxnSpPr>
          <p:nvPr/>
        </p:nvCxnSpPr>
        <p:spPr>
          <a:xfrm>
            <a:off x="5102280" y="266184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56" idx="6"/>
            <a:endCxn id="47" idx="2"/>
          </p:cNvCxnSpPr>
          <p:nvPr/>
        </p:nvCxnSpPr>
        <p:spPr>
          <a:xfrm>
            <a:off x="2242800" y="266184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51" idx="6"/>
            <a:endCxn id="58" idx="2"/>
          </p:cNvCxnSpPr>
          <p:nvPr/>
        </p:nvCxnSpPr>
        <p:spPr>
          <a:xfrm>
            <a:off x="6482880" y="266184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160020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0020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61" idx="2"/>
            <a:endCxn id="59" idx="0"/>
          </p:cNvCxnSpPr>
          <p:nvPr/>
        </p:nvCxnSpPr>
        <p:spPr>
          <a:xfrm>
            <a:off x="1918800" y="3124080"/>
            <a:ext cx="39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7238880" y="23590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238880" y="3657600"/>
            <a:ext cx="642960" cy="606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7656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57880" y="1447920"/>
            <a:ext cx="64440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8402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3" idx="6"/>
            <a:endCxn id="64" idx="2"/>
          </p:cNvCxnSpPr>
          <p:nvPr/>
        </p:nvCxnSpPr>
        <p:spPr>
          <a:xfrm>
            <a:off x="3719160" y="1750680"/>
            <a:ext cx="739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6"/>
            <a:endCxn id="65" idx="2"/>
          </p:cNvCxnSpPr>
          <p:nvPr/>
        </p:nvCxnSpPr>
        <p:spPr>
          <a:xfrm>
            <a:off x="5102280" y="1750680"/>
            <a:ext cx="738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69" idx="6"/>
            <a:endCxn id="63" idx="2"/>
          </p:cNvCxnSpPr>
          <p:nvPr/>
        </p:nvCxnSpPr>
        <p:spPr>
          <a:xfrm>
            <a:off x="2242800" y="175068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65" idx="6"/>
            <a:endCxn id="71" idx="2"/>
          </p:cNvCxnSpPr>
          <p:nvPr/>
        </p:nvCxnSpPr>
        <p:spPr>
          <a:xfrm>
            <a:off x="6482880" y="1750680"/>
            <a:ext cx="756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160020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238880" y="14479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69" idx="6"/>
            <a:endCxn id="47" idx="2"/>
          </p:cNvCxnSpPr>
          <p:nvPr/>
        </p:nvCxnSpPr>
        <p:spPr>
          <a:xfrm>
            <a:off x="2242800" y="175068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56" idx="6"/>
            <a:endCxn id="63" idx="2"/>
          </p:cNvCxnSpPr>
          <p:nvPr/>
        </p:nvCxnSpPr>
        <p:spPr>
          <a:xfrm flipV="1">
            <a:off x="2242800" y="1750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"/>
          <p:cNvCxnSpPr>
            <a:stCxn id="63" idx="6"/>
            <a:endCxn id="49" idx="2"/>
          </p:cNvCxnSpPr>
          <p:nvPr/>
        </p:nvCxnSpPr>
        <p:spPr>
          <a:xfrm>
            <a:off x="3719160" y="175068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"/>
          <p:cNvCxnSpPr>
            <a:stCxn id="47" idx="6"/>
            <a:endCxn id="64" idx="2"/>
          </p:cNvCxnSpPr>
          <p:nvPr/>
        </p:nvCxnSpPr>
        <p:spPr>
          <a:xfrm flipV="1">
            <a:off x="3719160" y="1750320"/>
            <a:ext cx="73908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64" idx="6"/>
            <a:endCxn id="51" idx="2"/>
          </p:cNvCxnSpPr>
          <p:nvPr/>
        </p:nvCxnSpPr>
        <p:spPr>
          <a:xfrm>
            <a:off x="5102280" y="175068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9" idx="6"/>
            <a:endCxn id="65" idx="2"/>
          </p:cNvCxnSpPr>
          <p:nvPr/>
        </p:nvCxnSpPr>
        <p:spPr>
          <a:xfrm flipV="1">
            <a:off x="5102280" y="1750320"/>
            <a:ext cx="7387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65" idx="6"/>
            <a:endCxn id="58" idx="2"/>
          </p:cNvCxnSpPr>
          <p:nvPr/>
        </p:nvCxnSpPr>
        <p:spPr>
          <a:xfrm>
            <a:off x="6482880" y="175068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0" name=""/>
          <p:cNvCxnSpPr>
            <a:stCxn id="51" idx="6"/>
            <a:endCxn id="71" idx="2"/>
          </p:cNvCxnSpPr>
          <p:nvPr/>
        </p:nvCxnSpPr>
        <p:spPr>
          <a:xfrm flipV="1">
            <a:off x="6482880" y="1750320"/>
            <a:ext cx="75636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2" idx="6"/>
            <a:endCxn id="69" idx="2"/>
          </p:cNvCxnSpPr>
          <p:nvPr/>
        </p:nvCxnSpPr>
        <p:spPr>
          <a:xfrm flipV="1">
            <a:off x="871560" y="175068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2" idx="6"/>
            <a:endCxn id="56" idx="2"/>
          </p:cNvCxnSpPr>
          <p:nvPr/>
        </p:nvCxnSpPr>
        <p:spPr>
          <a:xfrm>
            <a:off x="871560" y="220788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8305920" y="19051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"/>
          <p:cNvCxnSpPr>
            <a:stCxn id="71" idx="6"/>
            <a:endCxn id="83" idx="2"/>
          </p:cNvCxnSpPr>
          <p:nvPr/>
        </p:nvCxnSpPr>
        <p:spPr>
          <a:xfrm>
            <a:off x="7881840" y="1751040"/>
            <a:ext cx="424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58" idx="6"/>
            <a:endCxn id="83" idx="2"/>
          </p:cNvCxnSpPr>
          <p:nvPr/>
        </p:nvCxnSpPr>
        <p:spPr>
          <a:xfrm flipV="1">
            <a:off x="7881840" y="2207520"/>
            <a:ext cx="42480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096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stCxn id="87" idx="2"/>
            <a:endCxn id="48" idx="0"/>
          </p:cNvCxnSpPr>
          <p:nvPr/>
        </p:nvCxnSpPr>
        <p:spPr>
          <a:xfrm>
            <a:off x="3398400" y="312408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278928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9" idx="2"/>
            <a:endCxn id="50" idx="0"/>
          </p:cNvCxnSpPr>
          <p:nvPr/>
        </p:nvCxnSpPr>
        <p:spPr>
          <a:xfrm>
            <a:off x="4772160" y="3152880"/>
            <a:ext cx="864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4162320" y="1247760"/>
            <a:ext cx="1219320" cy="190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"/>
          <p:cNvCxnSpPr>
            <a:stCxn id="91" idx="2"/>
            <a:endCxn id="52" idx="0"/>
          </p:cNvCxnSpPr>
          <p:nvPr/>
        </p:nvCxnSpPr>
        <p:spPr>
          <a:xfrm>
            <a:off x="6184800" y="3124080"/>
            <a:ext cx="57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557532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3" idx="2"/>
            <a:endCxn id="62" idx="0"/>
          </p:cNvCxnSpPr>
          <p:nvPr/>
        </p:nvCxnSpPr>
        <p:spPr>
          <a:xfrm flipH="1">
            <a:off x="7561080" y="3124080"/>
            <a:ext cx="115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6962760" y="1219320"/>
            <a:ext cx="1219320" cy="1904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: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{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: State transit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,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changing from state i to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: Emission probability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,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that word at locatio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is associated with tag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Intial state prob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probability of starting in st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s in this 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: Number of hidden states in each column (distinct ta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: Number of columns in trellis (time ti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: Number of symbols (distinct wor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: The observation (the untagged tex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): The probability of emitting the symbol found at tick t, given state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j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The probability of arriving at state i in time tick t, given the observation before and after tick t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dden Markov Models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41144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s a NxN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is a NxT matri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is a vector of size 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588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52840" y="213372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934320" y="3276720"/>
            <a:ext cx="642960" cy="606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5" idx="6"/>
            <a:endCxn id="103" idx="0"/>
          </p:cNvCxnSpPr>
          <p:nvPr/>
        </p:nvCxnSpPr>
        <p:spPr>
          <a:xfrm>
            <a:off x="5671800" y="1525680"/>
            <a:ext cx="158508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502920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7" idx="6"/>
            <a:endCxn id="105" idx="2"/>
          </p:cNvCxnSpPr>
          <p:nvPr/>
        </p:nvCxnSpPr>
        <p:spPr>
          <a:xfrm>
            <a:off x="4195440" y="152532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3552840" y="12222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81240" y="16794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107" idx="6"/>
            <a:endCxn id="100" idx="2"/>
          </p:cNvCxnSpPr>
          <p:nvPr/>
        </p:nvCxnSpPr>
        <p:spPr>
          <a:xfrm>
            <a:off x="4195440" y="152532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6"/>
            <a:endCxn id="107" idx="2"/>
          </p:cNvCxnSpPr>
          <p:nvPr/>
        </p:nvCxnSpPr>
        <p:spPr>
          <a:xfrm flipV="1">
            <a:off x="2824200" y="1525320"/>
            <a:ext cx="729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8" idx="6"/>
            <a:endCxn id="102" idx="2"/>
          </p:cNvCxnSpPr>
          <p:nvPr/>
        </p:nvCxnSpPr>
        <p:spPr>
          <a:xfrm>
            <a:off x="2824200" y="1982520"/>
            <a:ext cx="729360" cy="454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5" idx="6"/>
            <a:endCxn id="101" idx="0"/>
          </p:cNvCxnSpPr>
          <p:nvPr/>
        </p:nvCxnSpPr>
        <p:spPr>
          <a:xfrm>
            <a:off x="5671800" y="1525680"/>
            <a:ext cx="747000" cy="1751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2819520" y="12952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22860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67080" y="114300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191120" y="1905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24480" y="175248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274320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r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00400" y="1599840"/>
            <a:ext cx="5486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for calculating Likelihoo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probability of arriving at trellis node (t,j) given the observation seen “so f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9640" y="20541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09640" y="388296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5" idx="6"/>
            <a:endCxn id="123" idx="2"/>
          </p:cNvCxnSpPr>
          <p:nvPr/>
        </p:nvCxnSpPr>
        <p:spPr>
          <a:xfrm>
            <a:off x="1452240" y="3274560"/>
            <a:ext cx="8341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809640" y="2971800"/>
            <a:ext cx="642960" cy="6066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2" idx="6"/>
            <a:endCxn id="123" idx="2"/>
          </p:cNvCxnSpPr>
          <p:nvPr/>
        </p:nvCxnSpPr>
        <p:spPr>
          <a:xfrm flipV="1">
            <a:off x="1452240" y="3274200"/>
            <a:ext cx="834120" cy="9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362320" y="304812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>
            <a:stCxn id="121" idx="6"/>
            <a:endCxn id="123" idx="2"/>
          </p:cNvCxnSpPr>
          <p:nvPr/>
        </p:nvCxnSpPr>
        <p:spPr>
          <a:xfrm>
            <a:off x="1452240" y="2356920"/>
            <a:ext cx="834120" cy="918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838080" y="21337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30481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396252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4724280" y="5181480"/>
                <a:ext cx="368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  <m:r>
                      <m:t xml:space="preserve">⋅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ward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metrical to Forward Algorith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"/>
              </a:rPr>
              <a:t>T,i</a:t>
            </a:r>
            <a:r>
              <a:rPr b="0" lang="en-US" sz="2400" spc="-1" strike="noStrike">
                <a:solidFill>
                  <a:srgbClr val="000000"/>
                </a:solidFill>
                <a:latin typeface=""/>
              </a:rPr>
              <a:t> =1 for all </a:t>
            </a:r>
            <a:r>
              <a:rPr b="0" i="1" lang="en-US" sz="2400" spc="-1" strike="noStrike">
                <a:solidFill>
                  <a:srgbClr val="000000"/>
                </a:solidFill>
                <a:latin typeface="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"/>
              </a:rPr>
              <a:t>Ind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36920" y="2117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36920" y="41752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6040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40" idx="2"/>
            <a:endCxn id="138" idx="6"/>
          </p:cNvCxnSpPr>
          <p:nvPr/>
        </p:nvCxnSpPr>
        <p:spPr>
          <a:xfrm flipH="1">
            <a:off x="1503000" y="3563640"/>
            <a:ext cx="1033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2536920" y="3260880"/>
            <a:ext cx="642960" cy="6062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1" name=""/>
          <p:cNvCxnSpPr>
            <a:stCxn id="137" idx="2"/>
            <a:endCxn id="142" idx="3"/>
          </p:cNvCxnSpPr>
          <p:nvPr/>
        </p:nvCxnSpPr>
        <p:spPr>
          <a:xfrm flipH="1" flipV="1">
            <a:off x="1469520" y="3520440"/>
            <a:ext cx="1067760" cy="9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936720" y="333684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36" idx="2"/>
            <a:endCxn id="138" idx="6"/>
          </p:cNvCxnSpPr>
          <p:nvPr/>
        </p:nvCxnSpPr>
        <p:spPr>
          <a:xfrm flipH="1">
            <a:off x="1503000" y="2420640"/>
            <a:ext cx="1033920" cy="1143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612880" y="21938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92360" y="3351240"/>
            <a:ext cx="533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4267080"/>
            <a:ext cx="533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4648320" y="4038480"/>
                <a:ext cx="403848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um-Welch Re-est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e two new matrices of intermediate probabilities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alculate new A, B,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given these proba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alculate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and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peat until p(O |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) doesn’t change 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4T20:40:22Z</dcterms:created>
  <dc:creator>School of Computing Science</dc:creator>
  <dc:description/>
  <dc:language>en-US</dc:language>
  <cp:lastModifiedBy>School of Computing Science</cp:lastModifiedBy>
  <dcterms:modified xsi:type="dcterms:W3CDTF">2002-12-04T23:07:22Z</dcterms:modified>
  <cp:revision>14</cp:revision>
  <dc:subject/>
  <dc:title>Tagging with Hidden Markov Models</dc:title>
</cp:coreProperties>
</file>