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9E85B-65BC-476A-B26D-7D72827C9635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o comm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otal row at 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rbitrary but compatible e.g. 30/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 NCSA return co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FB36-4FA7-4AD0-BD73-EABCD48D6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5BD7-3E28-4BB7-87CE-F1BAA8756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A187-A195-4C9D-BF51-076648FDA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D3DCD-4F44-4CD2-AB94-CB2BFC62E8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C1C5D-50F7-410B-AA41-1F0104FD1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CB2FAA-1CAC-48EE-8892-CE9D8C226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3F69-4786-4141-B8BD-4A42B2F4D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8E178-303B-451C-94C8-9B72D5D74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BB3F9-A9FD-4DFE-853D-1FA3192EF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03CE4-E9C2-42C0-BA2E-446176C53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0D106-56D4-4334-8D42-6C385E3B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79F0-CD60-4039-BF39-A6606ABB5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3AB1F-C6A2-425A-9B21-45A6423E7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0DE6C-B8BA-492C-B536-F607304AC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B9DA-F54E-4377-8629-081F965B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52D0-CFA5-4338-8325-0A835F9B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7CD82-2CDF-4641-B3BE-0D4D88C5E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FAEFC-CDAA-439E-9587-7C5618A2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D964F-2055-496B-BDF3-EC62BF16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9E11-0717-40DB-AC05-2D98155A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150560" y="404280"/>
            <a:ext cx="7792920" cy="356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6971-5651-4F20-9638-0188EF817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9DBD5-2437-4E58-A5D5-209BDB30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0677-C5A4-4CDF-A12F-459755CCB7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C9DD3-7F03-4E61-9A2D-C68FA2649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620640"/>
            <a:ext cx="338040" cy="36684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620640"/>
            <a:ext cx="242640" cy="366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934920"/>
            <a:ext cx="422280" cy="474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934920"/>
            <a:ext cx="368280" cy="474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86184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40464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19556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1A5C-094F-403F-8BDE-A56EFA30245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" name=""/>
          <p:cNvGraphicFramePr/>
          <p:nvPr/>
        </p:nvGraphicFramePr>
        <p:xfrm>
          <a:off x="108000" y="115920"/>
          <a:ext cx="1295280" cy="452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8000" y="115920"/>
                    <a:ext cx="1295280" cy="4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9E862-D3F1-4127-B233-14DFB3AA52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" Target=""/><Relationship Id="rId7" Type="http://schemas.openxmlformats.org/officeDocument/2006/relationships/slide" Target=""/><Relationship Id="rId8" Type="http://schemas.openxmlformats.org/officeDocument/2006/relationships/slide" Target=""/><Relationship Id="rId9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www.projectcounter.org/" TargetMode="Externa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9280" y="2515680"/>
            <a:ext cx="8062920" cy="182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333399"/>
                </a:solidFill>
                <a:latin typeface="Times New Roman"/>
              </a:rPr>
              <a:t>Working to make online usage statistics more meaningful</a:t>
            </a:r>
            <a:br>
              <a:rPr sz="4500"/>
            </a:br>
            <a:endParaRPr b="0" lang="en-US" sz="45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3779640" y="4581000"/>
            <a:ext cx="1942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431640" y="476280"/>
            <a:ext cx="8280720" cy="807840"/>
          </a:xfrm>
          <a:prstGeom prst="rect">
            <a:avLst/>
          </a:prstGeom>
          <a:ln w="0">
            <a:noFill/>
          </a:ln>
        </p:spPr>
      </p:pic>
      <p:grpSp>
        <p:nvGrpSpPr>
          <p:cNvPr id="101" name=""/>
          <p:cNvGrpSpPr/>
          <p:nvPr/>
        </p:nvGrpSpPr>
        <p:grpSpPr>
          <a:xfrm>
            <a:off x="0" y="2209680"/>
            <a:ext cx="3168360" cy="3889080"/>
            <a:chOff x="0" y="2209680"/>
            <a:chExt cx="3168360" cy="3889080"/>
          </a:xfrm>
        </p:grpSpPr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544760" y="4671360"/>
              <a:ext cx="1623600" cy="1427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0" y="2209680"/>
              <a:ext cx="1395000" cy="1846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" descr=""/>
            <p:cNvPicPr/>
            <p:nvPr/>
          </p:nvPicPr>
          <p:blipFill>
            <a:blip r:embed="rId4"/>
            <a:stretch/>
          </p:blipFill>
          <p:spPr>
            <a:xfrm>
              <a:off x="618120" y="3516840"/>
              <a:ext cx="1863720" cy="1729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5" name=""/>
          <p:cNvSpPr/>
          <p:nvPr/>
        </p:nvSpPr>
        <p:spPr>
          <a:xfrm>
            <a:off x="6227640" y="4581360"/>
            <a:ext cx="24480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chard Gedy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ha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U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KSG March 20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unding Sponsor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AP/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I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LPS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R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Atyp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lackwell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MJ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lsevier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OP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CST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ippincott, Williams &amp; Wilki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ature Publishing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EJ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CL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Que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aylor &amp; Franci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KS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60308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800"/>
            </a:br>
            <a:r>
              <a:rPr b="0" lang="en-US" sz="3800" spc="-1" strike="noStrike">
                <a:solidFill>
                  <a:srgbClr val="333399"/>
                </a:solidFill>
                <a:latin typeface="Tahoma"/>
              </a:rPr>
              <a:t>Executive Committee</a:t>
            </a:r>
            <a:endParaRPr b="0" lang="en-US" sz="3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94920" y="1483920"/>
            <a:ext cx="8488440" cy="53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nold Hirsho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LINE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azel Woodwar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anfield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ristine Fyf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Leicest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id Goodma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nceton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hil Dav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rnell Universi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c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chard Gedy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xford University Pr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 (Chai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rthyn Borghui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sevier Scienc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therland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ger Brow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laxoSmithKlin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o Hannay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ature Publishing Group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ry Hulbert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te of Physics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ny Kidd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y of Glasgo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ck Och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merican Chemical Societ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ver Pesch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BSC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roject Directo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2975040"/>
                <a:tab algn="l" pos="6576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ter Shepherd 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45872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Governance: </a:t>
            </a:r>
            <a:br>
              <a:rPr sz="3400"/>
            </a:br>
            <a:r>
              <a:rPr b="0" lang="en-US" sz="3400" spc="-1" strike="noStrike">
                <a:solidFill>
                  <a:srgbClr val="333399"/>
                </a:solidFill>
                <a:latin typeface="Tahoma"/>
              </a:rPr>
              <a:t>International Advisory Board</a:t>
            </a:r>
            <a:endParaRPr b="0" lang="en-US" sz="3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880" y="1447560"/>
            <a:ext cx="4321440" cy="5105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Consort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ne Costello CAUL, Australi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rraine Estelle, JISC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yun Tutiya, ANUL, Japa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cia Wise, JISC/DN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ances Boyle, Oxford U.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rew Braid, British Library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ise Davis, Oregon State U.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ss MacIntyre, U. of Manchester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ison McNab, U. of Nottingham, UK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mes Mouw, University of Chicago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nning Nielsen, Novo Nordisk, Denma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errie Schmidt, ARL, USA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ill Taylor-Roe, U. of Newcastle, U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952880" y="1294920"/>
            <a:ext cx="3888000" cy="527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cc0000"/>
                </a:solidFill>
                <a:uFillTx/>
                <a:latin typeface="Arial"/>
              </a:rPr>
              <a:t>Publishers, Aggregators, et a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tine Baldwin, Information Design &amp; Management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chael Butterfield, BMJ Grou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Cousins, Blackwell Publishing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y Fugle, Lippincott Williams &amp; Wilkin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risten Garlock, JSTOR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ian Green, BIC/EDItEUR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y Hammond, Harcourt Publisher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 Harris, NISO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ke Hoover, ProQuest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ther Joseph, BioOne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ornelia Junge, Wiley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rbara Lange, AAP/PSP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dy Luther, Informed Strategie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 Lefebvre, STM, The Netherlands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z McNaughton, Divine/ICEDIS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m Martin, OCLC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rsty Meddings, Ingent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Molyneux, NCL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ly Morris, ALPSP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ynn Norris, EduServ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ill O'Neill, NFAI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ris Parker, CAB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an Paskin, DOI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hn Sack, HighWire Press, USA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ham Taylor, Publishers' Association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llo Turner, ASA, UK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23520" y="533520"/>
            <a:ext cx="6877080" cy="73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200" spc="-1" strike="noStrike">
                <a:solidFill>
                  <a:srgbClr val="333399"/>
                </a:solidFill>
                <a:latin typeface="Tahoma"/>
              </a:rPr>
              <a:t>Code of Practice, Release 1 January 2003</a:t>
            </a:r>
            <a:endParaRPr b="0" lang="en-US" sz="4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Basic principl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1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Main features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Basic Principl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sm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with the bas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ility is our goal, not sophis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 as prescriptive as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nded to supplement, not replace, existing more sophisticated or product-related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support and advice for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10920" y="404280"/>
            <a:ext cx="687708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de of Practice, Release 1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 Featur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efinitions of terms used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udi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aintenance and development of the Code of Pract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efinitions of Term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90600" y="1545840"/>
            <a:ext cx="4541760" cy="47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b2b2b2"/>
                </a:solidFill>
                <a:latin typeface="Tahoma"/>
              </a:rPr>
              <a:t>Data elements to be collected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view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Bibliographic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Page typ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ource of pag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uthentication of user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Access righ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Session data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55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Market elements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"/>
          <p:cNvSpPr/>
          <p:nvPr/>
        </p:nvSpPr>
        <p:spPr>
          <a:xfrm>
            <a:off x="395280" y="5602320"/>
            <a:ext cx="8569440" cy="825480"/>
          </a:xfrm>
          <a:prstGeom prst="rect">
            <a:avLst/>
          </a:prstGeom>
          <a:noFill/>
          <a:ln w="284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very effort was made to incorporate or reconcile the definitions with existing ones from other groups, such as NISO and ICOLC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211640" y="1989000"/>
          <a:ext cx="4743360" cy="3521160"/>
        </p:xfrm>
        <a:graphic>
          <a:graphicData uri="http://schemas.openxmlformats.org/drawingml/2006/table">
            <a:tbl>
              <a:tblPr/>
              <a:tblGrid>
                <a:gridCol w="720720"/>
                <a:gridCol w="1008000"/>
                <a:gridCol w="1008000"/>
                <a:gridCol w="2006640"/>
              </a:tblGrid>
              <a:tr h="45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#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er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Examples / forma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efini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84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131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Item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article, TOC, Abstract, Database recor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uniquely identifiable piece of published work that may be original or a digest or a review of other published work. PDF, Postscript and HTML formats of the same full text article (for example), will be counted as separate items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rticl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n item of original written work published in a journal or other serial publication. An article is complete in itself, but usually cites other relevant published works in its list of 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.1.2.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C (Table of  Contents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list of all articles published in a journal issu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1. Report content and forma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2. Report delivery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CONTENT AND FORMAT 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1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full-text article request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urnaways by month and jour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1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2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T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urnaways by month &amp;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ffcf01"/>
                </a:solidFill>
                <a:latin typeface="Tahoma"/>
              </a:rPr>
              <a:t>Database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&amp; sessions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evel 2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3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mber of successful item requests and turnaways by month, journal &amp; page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e4a8"/>
                </a:solidFill>
                <a:latin typeface="Tahoma"/>
              </a:rPr>
              <a:t>Journal Report 4:</a:t>
            </a:r>
            <a:r>
              <a:rPr b="0" lang="en-GB" sz="2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total searches run, by month &amp;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835280" y="404280"/>
            <a:ext cx="710856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99"/>
                </a:solidFill>
                <a:latin typeface="Tahoma"/>
              </a:rPr>
              <a:t>Journal Report 1: Successful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Full-Text Article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Requests</a:t>
            </a:r>
            <a:r>
              <a:rPr b="0" lang="en-US" sz="3000" spc="-1" strike="noStrike" u="sng">
                <a:solidFill>
                  <a:srgbClr val="333399"/>
                </a:solidFill>
                <a:uFillTx/>
                <a:latin typeface="Tahoma"/>
              </a:rPr>
              <a:t> by Month and </a:t>
            </a:r>
            <a:r>
              <a:rPr b="0" lang="en-US" sz="30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Journal</a:t>
            </a:r>
            <a:endParaRPr b="0" lang="en-US" sz="3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"/>
          <p:cNvSpPr/>
          <p:nvPr/>
        </p:nvSpPr>
        <p:spPr>
          <a:xfrm>
            <a:off x="2249640" y="1968120"/>
            <a:ext cx="18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324000" y="1844640"/>
          <a:ext cx="8497800" cy="3799080"/>
        </p:xfrm>
        <a:graphic>
          <a:graphicData uri="http://schemas.openxmlformats.org/drawingml/2006/table">
            <a:tbl>
              <a:tblPr/>
              <a:tblGrid>
                <a:gridCol w="1584360"/>
                <a:gridCol w="1368360"/>
                <a:gridCol w="1368360"/>
                <a:gridCol w="1079640"/>
                <a:gridCol w="863640"/>
                <a:gridCol w="865080"/>
                <a:gridCol w="1368360"/>
              </a:tblGrid>
              <a:tr h="812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5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89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6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C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64-21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54-15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D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355-54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0165-55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1752480" y="5867280"/>
            <a:ext cx="5693040" cy="131292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Today’s agenda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are we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Who is supporting and funding us?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COUNTER Code of Practic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Feature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Compliance and Commitment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80000"/>
              </a:lnSpc>
              <a:spcBef>
                <a:spcPts val="9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2b2b2"/>
                </a:solidFill>
                <a:latin typeface="Tahoma"/>
              </a:rPr>
              <a:t>Future Plan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10920" y="500040"/>
            <a:ext cx="68058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Journal Report 2: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Turnaway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by Month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Journal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0" y="19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250920" y="1906560"/>
          <a:ext cx="8642160" cy="3657600"/>
        </p:xfrm>
        <a:graphic>
          <a:graphicData uri="http://schemas.openxmlformats.org/drawingml/2006/table">
            <a:tbl>
              <a:tblPr/>
              <a:tblGrid>
                <a:gridCol w="1081080"/>
                <a:gridCol w="1008000"/>
                <a:gridCol w="1008000"/>
                <a:gridCol w="1440000"/>
                <a:gridCol w="936360"/>
                <a:gridCol w="935280"/>
                <a:gridCol w="936720"/>
                <a:gridCol w="12967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1739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full-text turn-aways for all journal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76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821-336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12-87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 text Turnaway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11000" y="5791320"/>
            <a:ext cx="5747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468360" y="2017800"/>
          <a:ext cx="8136000" cy="3690720"/>
        </p:xfrm>
        <a:graphic>
          <a:graphicData uri="http://schemas.openxmlformats.org/drawingml/2006/table">
            <a:tbl>
              <a:tblPr/>
              <a:tblGrid>
                <a:gridCol w="1655640"/>
                <a:gridCol w="1800360"/>
                <a:gridCol w="934920"/>
                <a:gridCol w="936720"/>
                <a:gridCol w="1081080"/>
                <a:gridCol w="1727280"/>
              </a:tblGrid>
              <a:tr h="949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 - 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987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A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765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4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arches Ru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6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5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4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atabase B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ess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8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5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20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91280" y="5867280"/>
            <a:ext cx="588060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 Level 1 Repor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4"/>
          <a:stretch/>
        </p:blipFill>
        <p:spPr>
          <a:xfrm>
            <a:off x="-304920" y="-114480"/>
            <a:ext cx="9753840" cy="708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440000" y="476280"/>
            <a:ext cx="770400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Journal Report 3: Number of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uccessful Item Request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25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Turnaways</a:t>
            </a:r>
            <a:r>
              <a:rPr b="0" lang="en-US" sz="2500" spc="-1" strike="noStrike">
                <a:solidFill>
                  <a:srgbClr val="333399"/>
                </a:solidFill>
                <a:latin typeface="Tahoma"/>
              </a:rPr>
              <a:t>, by Month, Journal and Page-Type</a:t>
            </a:r>
            <a:endParaRPr b="0" lang="en-US" sz="2500" spc="-1" strike="noStrike">
              <a:solidFill>
                <a:srgbClr val="333399"/>
              </a:solidFill>
              <a:latin typeface="Tahoma"/>
            </a:endParaRPr>
          </a:p>
        </p:txBody>
      </p:sp>
      <p:graphicFrame>
        <p:nvGraphicFramePr>
          <p:cNvPr id="159" name=""/>
          <p:cNvGraphicFramePr/>
          <p:nvPr/>
        </p:nvGraphicFramePr>
        <p:xfrm>
          <a:off x="289080" y="1268280"/>
          <a:ext cx="8564400" cy="5013360"/>
        </p:xfrm>
        <a:graphic>
          <a:graphicData uri="http://schemas.openxmlformats.org/drawingml/2006/table">
            <a:tbl>
              <a:tblPr/>
              <a:tblGrid>
                <a:gridCol w="1187280"/>
                <a:gridCol w="934920"/>
                <a:gridCol w="936720"/>
                <a:gridCol w="2592360"/>
                <a:gridCol w="647640"/>
                <a:gridCol w="720720"/>
                <a:gridCol w="719280"/>
                <a:gridCol w="825480"/>
              </a:tblGrid>
              <a:tr h="398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Nam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rint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Online ISS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Page Typ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an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eb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Mar-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alendar YT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3" action="ppaction://hlinksldjump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4" action="ppaction://hlinksldjump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89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5" action="ppaction://hlinksldjump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6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6" action="ppaction://hlinksldjump"/>
                        </a:rPr>
                        <a:t>Postscript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7" action="ppaction://hlinksldjump"/>
                        </a:rPr>
                        <a:t>PDF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7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9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5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</a:t>
                      </a:r>
                      <a:r>
                        <a:rPr b="0" lang="en-US" sz="1000" spc="-1" strike="noStrike" u="sng">
                          <a:solidFill>
                            <a:srgbClr val="ff0000"/>
                          </a:solidFill>
                          <a:uFillTx/>
                          <a:latin typeface="Arial"/>
                          <a:ea typeface="Arial"/>
                          <a:hlinkClick r:id="rId8" action="ppaction://hlinksldjump"/>
                        </a:rPr>
                        <a:t>HTML</a:t>
                      </a:r>
                      <a:r>
                        <a:rPr b="0" lang="en-US" sz="10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  <a:ea typeface="Arial"/>
                        </a:rPr>
                        <a:t>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2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43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94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8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0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Journal of AA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12-313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5-3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…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.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………………………………………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.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able of Conte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32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703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1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00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bstra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12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600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52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6798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Referenc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8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7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87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ostscript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34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94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253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6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4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8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46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2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4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95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0784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Total Reques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46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855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577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9453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PDF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32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41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21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876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  <a:tr h="246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otal: all Journa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Full-text HTML Turnaway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12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32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15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 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645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cccccc"/>
                    </a:solidFill>
                  </a:tcPr>
                </a:tc>
              </a:tr>
            </a:tbl>
          </a:graphicData>
        </a:graphic>
      </p:graphicFrame>
      <p:sp>
        <p:nvSpPr>
          <p:cNvPr id="160" name=""/>
          <p:cNvSpPr/>
          <p:nvPr/>
        </p:nvSpPr>
        <p:spPr>
          <a:xfrm>
            <a:off x="2895480" y="6451560"/>
            <a:ext cx="3581640" cy="4748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r>
              <a:rPr b="0" lang="en-US" sz="2500" spc="-1" strike="noStrike">
                <a:solidFill>
                  <a:srgbClr val="cc0000"/>
                </a:solidFill>
                <a:latin typeface="Stencil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58720" y="50004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Database Report 1: Total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1" action="ppaction://hlinksldjump"/>
              </a:rPr>
              <a:t>Searches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 and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2" action="ppaction://hlinksldjump"/>
              </a:rPr>
              <a:t>Sessions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by Month &amp; </a:t>
            </a:r>
            <a:r>
              <a:rPr b="0" lang="en-US" sz="3600" spc="-1" strike="noStrike" u="sng">
                <a:solidFill>
                  <a:srgbClr val="ff0000"/>
                </a:solidFill>
                <a:uFillTx/>
                <a:latin typeface="Tahoma"/>
                <a:hlinkClick r:id="rId3" action="ppaction://hlinksldjump"/>
              </a:rPr>
              <a:t>Database</a:t>
            </a:r>
            <a:r>
              <a:rPr b="0" lang="en-US" sz="3600" spc="-1" strike="noStrike" u="sng">
                <a:solidFill>
                  <a:srgbClr val="333399"/>
                </a:solidFill>
                <a:uFillTx/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"/>
          <p:cNvSpPr/>
          <p:nvPr/>
        </p:nvSpPr>
        <p:spPr>
          <a:xfrm>
            <a:off x="3349080" y="5813280"/>
            <a:ext cx="221976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Stencil"/>
              </a:rPr>
              <a:t>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4"/>
          <a:stretch/>
        </p:blipFill>
        <p:spPr>
          <a:xfrm>
            <a:off x="-228600" y="-228600"/>
            <a:ext cx="9753480" cy="70866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2743200" y="5486400"/>
            <a:ext cx="31989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Stencil"/>
              </a:rPr>
              <a:t>Example Level 2 Re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Specifications for Usage Report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9492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REPORT DELIVERY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SV file, Microsoft Excel file, or file that can be easily exported to Microsoft Exc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vailable on a password-controlled website (accompanied by an e-mail alert when data is upd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Provided at least month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Updated within two weeks of the end of each reporting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ll of last calendar year’s data and this calendar year’s to date must be suppl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Enhancements Under Consideration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3640" y="1557360"/>
            <a:ext cx="8351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down usage reports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ear of publ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e of purchase (subscribed, pay per view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a further survey of librarians may be conducted to learn which reports are prefer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 additional terms, e.g., “article download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rify how to count “full-text requests” (e.g., individual articles vs. subsets of articl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Data processing guidelines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39640" y="1557000"/>
            <a:ext cx="805968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vers only intended u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Code of Practice specifies the criteria to be met by the data used in building the Usage Repor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nly successful requests will be cou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cords generated by the server, together with the requested pages, should be igno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All users’ double clicks within 10 seconds on an http-link should be counted as only one request (30 seconds for PDF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detailed guidelines are being compiled on  data processing and will shortly appear on the COUNTER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Complian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00000" y="1413000"/>
            <a:ext cx="7772400" cy="471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More than one complianc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1: basic set of journal and databas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Level 2: more detailed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Licence Agre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Standard clause covering COUNTER compli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Declaration of COUNTER compli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or 200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endors sign declaration and demonstrate to COUNTER that they can provide at least Level 1 Usage Repor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Register of COUNTER-compliant vend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Maintained on the COUNTER websi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Publishers who have stated they intend to comply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779640" y="1557360"/>
            <a:ext cx="43210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Chemical Socie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merican 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ackwe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B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BSC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sevi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z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Wi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gen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itute of Physi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P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xford University P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608400" y="2446200"/>
            <a:ext cx="2483640" cy="703440"/>
          </a:xfrm>
          <a:prstGeom prst="rect">
            <a:avLst/>
          </a:prstGeom>
          <a:noFill/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Tahoma"/>
              </a:rPr>
              <a:t>Initial 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Why was COUNTER formed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Libraries and consortia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Publishers need online usage statistics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Tahoma"/>
              </a:rPr>
              <a:t>Usage statistics need to be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red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8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nsisten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Auditing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10920" y="1341360"/>
            <a:ext cx="777564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publisher or content provider will be able to state that it is “Counter Compliant” only if this can be certified through an independent aud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 scope: reports, processes &amp; application of definition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will be required beginning in 200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RFP will be issued to qualify audit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uditing processes are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A list of COUNTER-approved auditors will be mad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76000" y="500040"/>
            <a:ext cx="74674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Maintenance and Development of the Code of Practice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10920" y="1700280"/>
            <a:ext cx="8343720" cy="443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ull text of the Code of Practice is freely available on the COUNTER web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html and PDF form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Code of Practice will be systematically exten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Feedback on Release 1 is actively sough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test sites involving publishers and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Via feedback to COUNTER via the website, International Advisory Board, etc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31800" y="500040"/>
            <a:ext cx="779328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uture Developments: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2003 and beyond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Objectives for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and gain acceptance for the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Obtain feedback on Release 1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Complete list of approved audit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Define and set up a permanent administrative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Promote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Full implementation by vendors for 2004 subscription ye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Beyond 200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Build membership of COUN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Extend and deepen Code of Pract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Cover e-books, etc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Journal reporting at articl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For more information………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6989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Tahoma"/>
              </a:rPr>
              <a:t>Peter Shepherd (Project Directo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a50021"/>
                </a:solidFill>
                <a:latin typeface="Tahoma"/>
              </a:rPr>
              <a:t>pshepherd@projectcounter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statistics -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Collection Development To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a more accurate match of information resources to patron needs for learning, teaching, and resear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Provide the right materials, at the right time, in the right format, via an appropriate method of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“</a:t>
            </a:r>
            <a:r>
              <a:rPr b="0" i="1" lang="en-GB" sz="2800" spc="-1" strike="noStrike">
                <a:solidFill>
                  <a:srgbClr val="a50021"/>
                </a:solidFill>
                <a:latin typeface="Tahoma"/>
              </a:rPr>
              <a:t>Usage of this journal on the shelf has declined. Should we drop the journal or just its print version?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09120" y="-228960"/>
            <a:ext cx="10287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</a:t>
            </a:r>
            <a:br>
              <a:rPr sz="3600"/>
            </a:br>
            <a:r>
              <a:rPr b="0" lang="en-GB" sz="3600" spc="-1" strike="noStrike">
                <a:solidFill>
                  <a:srgbClr val="333399"/>
                </a:solidFill>
                <a:latin typeface="Tahoma"/>
              </a:rPr>
              <a:t>      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libraries need usage </a:t>
            </a:r>
            <a:br>
              <a:rPr sz="4400"/>
            </a:b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     statistics -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645680" cy="445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lobby for increased fu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allocate expenditure more accu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instit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</a:rPr>
              <a:t>Within consort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inform internal marketing and promot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ahoma"/>
              </a:rPr>
              <a:t>To develop new purchasing models, especially at the  consortial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50720" y="60912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1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21932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support library efforts to procure fund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demonstrate that reduced usage of print issues has been compensated for by increased online us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assess the relative importance of the various routes via which information reaches its mark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ahoma"/>
              </a:rPr>
              <a:t>To experiment with new pricing mode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Why publishers need usage statistics - 2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provide editorial policy support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obtain improved market analysis and demographic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improve site design and navigation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924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000000"/>
                </a:solidFill>
                <a:latin typeface="Tahoma"/>
              </a:rPr>
              <a:t>To help plan infrastructure e.g. mirror sites/caches</a:t>
            </a:r>
            <a:endParaRPr b="0" lang="en-US" sz="3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50720" y="533520"/>
            <a:ext cx="7792920" cy="76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333399"/>
                </a:solidFill>
                <a:latin typeface="Tahoma"/>
              </a:rPr>
              <a:t>Who are we?</a:t>
            </a:r>
            <a:endParaRPr b="0" lang="en-US" sz="6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000000"/>
                </a:solidFill>
                <a:latin typeface="Tahoma"/>
              </a:rPr>
              <a:t>An organisation with cross community support………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404280"/>
            <a:ext cx="7792920" cy="7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	</a:t>
            </a:r>
            <a:r>
              <a:rPr b="0" lang="en-GB" sz="4400" spc="-1" strike="noStrike">
                <a:solidFill>
                  <a:srgbClr val="333399"/>
                </a:solidFill>
                <a:latin typeface="Tahoma"/>
              </a:rPr>
              <a:t>Endorsed by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AP, Association of American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PSP, The Association of Learned and Professional Society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RL, Association of Research Libr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SA, Association of Subscription Agents and Intermediar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DItEU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JISC, Joint Information Systems Committ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CLIS, National Commission on Libraries and Information Sci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NISO, National Information Standards Organ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, The Publishers Associ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TM, International Association of Scientific, Technical &amp; Medical Publish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UKSG, United Kingdom Serials Gro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6T10:24:45Z</dcterms:created>
  <dc:creator> </dc:creator>
  <dc:description/>
  <dc:language>en-US</dc:language>
  <cp:lastModifiedBy> </cp:lastModifiedBy>
  <dcterms:modified xsi:type="dcterms:W3CDTF">2003-04-07T08:02:56Z</dcterms:modified>
  <cp:revision>64</cp:revision>
  <dc:subject/>
  <dc:title>The COUNTER Code of Practice -Release 1</dc:title>
</cp:coreProperties>
</file>