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424A-248D-41AE-B932-A8E002C80E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227D-E6AE-46E1-8150-3C050C555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1B3AB-7FBD-45DF-A172-5E084B06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CF89-DFE9-467A-B916-E2E32CD4CD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9978B-DBD0-4A85-9FC4-530C1F5FE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62C7-D803-4915-B37C-485E99484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29F5-8A9F-411B-8B7D-7E226CB80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9E588-F831-4454-84E0-9C3FBE4E1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26EB5-7285-4953-89B8-DD51AE283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19E6-00EF-4B72-86E2-DCBFC6EA5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6751A-42A0-42E7-AC2B-69D990A77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61D1D-F7A7-432B-8E17-DF06293D3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863EE-43D9-414C-BEFC-622813D0D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85455-2F71-4776-A9D9-A664D3D22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E16D-07DA-445B-9932-5A42A153F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D1EA3-BD4C-4DF5-9764-21548A215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8281F-877C-4A68-A83B-567D6460D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C646E-8FBE-4DE4-8F91-A2474BB4F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D5B7-DD09-4B8A-81E4-FE9826F55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B483-73C0-40D8-AB22-E982E651D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CBFB7-D76B-4A37-B507-42DD807CE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BBC7B-EE34-4C8B-9EA9-7FEABA768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3E8E-A86D-4601-9AF2-78D4AC364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D3377-291F-480E-AB79-75D157A46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8B04-2A61-490D-873E-E0715BC28645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80880" y="2438280"/>
            <a:ext cx="853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92d050"/>
                </a:solidFill>
                <a:latin typeface="Calibri"/>
              </a:rPr>
              <a:t>This text comes from the Master Slid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Times New Roman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EB912-E188-4908-9B9A-885B8E8A39E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First pag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First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2</a:t>
            </a:r>
            <a:r>
              <a:rPr b="1" i="1" lang="en-GB" sz="3200" spc="-1" strike="noStrike" baseline="30000">
                <a:solidFill>
                  <a:srgbClr val="898989"/>
                </a:solidFill>
                <a:latin typeface="Calibri"/>
              </a:rPr>
              <a:t>nd</a:t>
            </a:r>
            <a:r>
              <a:rPr b="1" i="1" lang="en-GB" sz="3200" spc="-1" strike="noStrike">
                <a:solidFill>
                  <a:srgbClr val="898989"/>
                </a:solidFill>
                <a:latin typeface="Calibri"/>
              </a:rPr>
              <a:t> pag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Footer from the master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6T13:27:36Z</dcterms:created>
  <dc:creator>Windows User</dc:creator>
  <dc:description/>
  <dc:language>en-US</dc:language>
  <cp:lastModifiedBy>Windows User</cp:lastModifiedBy>
  <dcterms:modified xsi:type="dcterms:W3CDTF">2011-09-26T13:45:05Z</dcterms:modified>
  <cp:revision>6</cp:revision>
  <dc:subject/>
  <dc:title>First page title</dc:title>
</cp:coreProperties>
</file>