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778200" y="-36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61480" y="746280"/>
            <a:ext cx="4961160" cy="372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122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tudes Marketing - Mars 2000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778200" y="9651600"/>
            <a:ext cx="2890800" cy="27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C7CDD-B825-482A-B88E-9C24EB55BBD3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，并请修改报告模板年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861840" y="746280"/>
            <a:ext cx="4961160" cy="372096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891720" y="4714560"/>
            <a:ext cx="4884840" cy="27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请注意店名和报告日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DBA6-7546-4188-AA87-77F381139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AEF00-DBEA-413B-BCDC-12240FFC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BD4E-6FEA-4417-A61F-56EDFBA9F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0628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9040" y="175212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52352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0628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9040" y="4060800"/>
            <a:ext cx="217368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BE924-C3DD-4DF6-9BEA-5A02B6C63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45937-34C1-4A43-B47F-2B7A46FB0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2CAA9-ABDE-4E89-B6E5-CE1617B7D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AB416-6537-4D85-90E5-68476736C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8CBFF-E7BB-4A96-8588-42AC7A661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2440" y="126720"/>
            <a:ext cx="746136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6B5A-6641-4862-9BF5-707698D11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0CF2A-4D53-4B70-8F49-C6F98161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83480" y="406080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33FB-29FF-443A-B44F-761F75CF6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2440" y="49680"/>
            <a:ext cx="7461360" cy="76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52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83480" y="1752120"/>
            <a:ext cx="329472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523520" y="4060800"/>
            <a:ext cx="6751800" cy="210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EB85-4401-481E-ACA1-9EFA73750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523520" y="1752120"/>
            <a:ext cx="6751800" cy="441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82440" y="126720"/>
            <a:ext cx="7461360" cy="6858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b2b2b2"/>
            </a:outerShdw>
          </a:effectLst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a08366"/>
                </a:solidFill>
                <a:latin typeface="Arial"/>
              </a:rPr>
              <a:t>VAL D'EUROPE - OBS ${year}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a08366"/>
                </a:solidFill>
                <a:latin typeface="Arial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EFDA1-2736-4056-996C-AD195431B894}" type="slidenum">
              <a:rPr b="0" lang="fr-FR" sz="1400" spc="-1" strike="noStrike">
                <a:solidFill>
                  <a:srgbClr val="a08366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1447920" y="762120"/>
            <a:ext cx="769608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3"/>
          <p:cNvSpPr/>
          <p:nvPr/>
        </p:nvSpPr>
        <p:spPr>
          <a:xfrm>
            <a:off x="7020000" y="184464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Line 4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5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7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${store}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8"/>
          <p:cNvSpPr/>
          <p:nvPr/>
        </p:nvSpPr>
        <p:spPr>
          <a:xfrm>
            <a:off x="762120" y="6172200"/>
            <a:ext cx="213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China MRD ${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  <a:ea typeface="Arial Unicode MS"/>
              </a:rPr>
              <a:t>year</a:t>
            </a:r>
            <a:r>
              <a:rPr b="0" lang="fr-FR" sz="1200" spc="-1" strike="noStrike">
                <a:solidFill>
                  <a:srgbClr val="0000ff"/>
                </a:solidFill>
                <a:latin typeface="Arial"/>
              </a:rPr>
              <a:t>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6380280" y="6237360"/>
            <a:ext cx="2152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Telephone :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1027"/>
          <p:cNvSpPr/>
          <p:nvPr/>
        </p:nvSpPr>
        <p:spPr>
          <a:xfrm>
            <a:off x="7020000" y="1866960"/>
            <a:ext cx="1666800" cy="458280"/>
          </a:xfrm>
          <a:prstGeom prst="rect">
            <a:avLst/>
          </a:prstGeom>
          <a:solidFill>
            <a:srgbClr val="fbfa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cc"/>
                </a:solidFill>
                <a:latin typeface="Arial"/>
              </a:rPr>
              <a:t>${month}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Line 1028"/>
          <p:cNvSpPr/>
          <p:nvPr/>
        </p:nvSpPr>
        <p:spPr>
          <a:xfrm>
            <a:off x="2363760" y="2362320"/>
            <a:ext cx="51800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29"/>
          <p:cNvSpPr/>
          <p:nvPr/>
        </p:nvSpPr>
        <p:spPr>
          <a:xfrm flipH="1" flipV="1">
            <a:off x="990000" y="6423840"/>
            <a:ext cx="1726920" cy="284040"/>
          </a:xfrm>
          <a:prstGeom prst="rect">
            <a:avLst/>
          </a:prstGeom>
          <a:solidFill>
            <a:srgbClr val="ff0000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rot="10800000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031"/>
          <p:cNvSpPr/>
          <p:nvPr/>
        </p:nvSpPr>
        <p:spPr>
          <a:xfrm>
            <a:off x="1523880" y="2743200"/>
            <a:ext cx="6705720" cy="2743200"/>
          </a:xfrm>
          <a:prstGeom prst="rect">
            <a:avLst/>
          </a:prstGeom>
          <a:solidFill>
            <a:srgbClr val="f8f8f8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0000"/>
                </a:solidFill>
                <a:latin typeface="Arial"/>
              </a:rPr>
              <a:t>OBSERVATOIRE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First Part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6666"/>
                </a:solidFill>
                <a:latin typeface="Arial"/>
              </a:rPr>
              <a:t>Catchments are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32"/>
          <p:cNvSpPr/>
          <p:nvPr/>
        </p:nvSpPr>
        <p:spPr>
          <a:xfrm>
            <a:off x="685800" y="6172200"/>
            <a:ext cx="243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33cc"/>
                </a:solidFill>
                <a:latin typeface="Arial"/>
              </a:rPr>
              <a:t>China MRD ${year}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33"/>
          <p:cNvSpPr/>
          <p:nvPr/>
        </p:nvSpPr>
        <p:spPr>
          <a:xfrm>
            <a:off x="1828800" y="730080"/>
            <a:ext cx="73152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33cc"/>
                </a:solidFill>
                <a:latin typeface="Arial"/>
              </a:rPr>
              <a:t>${store} STO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29T12:00:03Z</dcterms:created>
  <dc:creator>marie duhem</dc:creator>
  <dc:description/>
  <dc:language>en-US</dc:language>
  <cp:lastModifiedBy>OPEN</cp:lastModifiedBy>
  <cp:lastPrinted>2000-04-04T07:34:50Z</cp:lastPrinted>
  <dcterms:modified xsi:type="dcterms:W3CDTF">2011-11-25T09:58:43Z</dcterms:modified>
  <cp:revision>2471</cp:revision>
  <dc:subject>projet</dc:subject>
  <dc:title>Aucun titre de diapositive</dc:title>
</cp:coreProperties>
</file>